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AE4F-4134-4156-9D92-427926791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17E1-88D1-466D-BB77-E4732B5FF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738D-83F9-43FE-B325-2A299C9B7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2422-CB0D-4C9E-A1DD-715B77EE2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66B3D-EED6-44BF-86E6-813354E44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B9527-2AE1-4E18-BE07-CE13B984E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FB92A-FB9D-4F36-A380-D36158C9F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3995C-5A7C-4BAD-B391-CD7327BB1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E029C-08EC-48F3-96E5-C4DB1FEE4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4EAD8-7E3D-44E2-8BDA-473599ECD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18029-27B6-49D7-9A23-51FA7F44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5A07-27C7-4BBE-8F24-B5FB7C3F3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BDBDB-F268-4B93-BBB9-EE3059A0A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9CEEA-02F2-40F9-9404-899C8EA5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A4E20-E4FA-4967-B42A-E351F515E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3DEFA-FC32-4CEB-8AA0-1FF1D67DA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F4082-E64A-4123-9E36-EDCAF8E2A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C52C6-5DF2-439C-B9E9-706D7BDB9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5E7DE-C261-4EAB-8519-878427119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70D95-C7F4-42F3-AE9F-CE6FA4205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F5209-DB38-41BA-A723-D5F52F9D5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04008-F9FE-41F6-B188-7B85361F2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1B80-190E-46E8-AFB4-F2DAA3C9E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15F26-D90D-438D-ABF5-C0AD86ADE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ECB97-1C2A-49C7-85D8-8BCE3935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A04FA-DF40-4494-A68C-0A6856CAD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56C91-D1DC-42D5-B8E3-CF9CA10E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57809-142F-4BEA-A16C-B39FA9229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0F4F4-A095-4954-A3BB-671802B66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F2FFD-F150-4D42-8972-0DD724A5C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78071-AACE-4186-91CA-9D6C6C379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21FB4-749E-484F-B26C-735DC3CA0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59156-9606-49FB-9132-BD1EBCE7A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BDEA-4007-48F4-9D55-5A6C7A97C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532F5-B841-4255-AD7A-196A7B0C4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87387-E63A-4A9B-813B-716C9B481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C4EED-07F2-43A6-ADAE-84C599715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8E716-906C-4D8F-99F0-AF25C33DC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43D96-BCEA-4149-940F-475FD4587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829CA-CEFD-4494-95F2-E51878D5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30C18-EADC-4CA6-AB81-123FD2AE1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451DD-E985-48A4-AC1E-F02AB929E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01E8D-827B-4F1A-AC02-F9D34632F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A906-DAE8-49E4-8969-A94C8F27A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630F-0907-4192-B1FA-4E908DDF0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B094-E478-4BF0-9C0D-D50C83EC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4A92-63C6-47FA-ACCD-8FB7A4233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B4B1-40A6-4D2C-9DCB-1073E2834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64CE0-4716-4157-8A4C-839CCCBB33C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81DF4-0BAA-4780-83A0-C79037431B4D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0442D-6FE4-45D5-A63A-ECB76A1D4B98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59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CA574-48E8-4EF8-9925-0F07304C74C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Title 1" descr=""/>
          <p:cNvPicPr/>
          <p:nvPr/>
        </p:nvPicPr>
        <p:blipFill>
          <a:blip r:embed="rId1"/>
          <a:stretch/>
        </p:blipFill>
        <p:spPr>
          <a:xfrm>
            <a:off x="201600" y="-60480"/>
            <a:ext cx="8570880" cy="326736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609480" y="3048120"/>
            <a:ext cx="77788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Dr. Beverly J. Buckles, DSW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Dean, School of Behavioral Health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Chair and Professor, Department of Social Work and Social Ecology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Co-Chair, International Behavioral Health Trauma Team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Loma Linda University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Dr. Kimberly R. Freeman, PhD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Associate Executive Chair  and Associate Professor, Department of Social Work and Social Ecology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Member, International Behavioral Health Trauma Team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Loma Linda University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dentifique a los voluntarios por adelantado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¿A quién debería reclutar?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onstantia"/>
              </a:rPr>
              <a:t>Idealmente a individuos con experiencia trabajando con niños de diferentes edad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onstantia"/>
              </a:rPr>
              <a:t>Voluntarios adultos masculinos que puedan asistir con asuntos de seguridad además de ayudar con los jovencitos mayor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Personas dignas de confianza y emocionalmente establ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Voluntari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Title 1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5" name=""/>
          <p:cNvGraphicFramePr/>
          <p:nvPr/>
        </p:nvGraphicFramePr>
        <p:xfrm>
          <a:off x="609480" y="1981080"/>
          <a:ext cx="7848720" cy="4267440"/>
        </p:xfrm>
        <a:graphic>
          <a:graphicData uri="http://schemas.openxmlformats.org/drawingml/2006/table">
            <a:tbl>
              <a:tblPr/>
              <a:tblGrid>
                <a:gridCol w="2975040"/>
                <a:gridCol w="1968480"/>
                <a:gridCol w="2905200"/>
              </a:tblGrid>
              <a:tr h="32868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Sugerencia para proporción de adulto/niñ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5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# de Voluntarios Adul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# de Ni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Edades de Ni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Menos de 24 me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25 to 35 me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36 meses a 5 a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6 a 9 a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9 a 12 a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3 a 16 a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4240">
                <a:tc gridSpan="3">
                  <a:txBody>
                    <a:bodyPr lIns="68760" rIns="68760" tIns="0" bIns="0" anchor="t">
                      <a:noAutofit/>
                    </a:bodyPr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*2-3 Voluntarios adicionales para asistir con el monitoreo de seguridad y para ayudar a niños con necesidades especiales, comidas, et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533520" y="21333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Si van a haber niños quedándose a dormir en el centro de refugio por las noches, va a ser necesario que un voluntario adulto se encargue del turno de noche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Siempre y cuando </a:t>
            </a:r>
            <a:r>
              <a:rPr b="0" lang="es-MX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haya varios niños durmiendo en la misma habitación,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de</a:t>
            </a:r>
            <a:r>
              <a:rPr b="0" lang="es-MX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bería de haber un mínimo de dos voluntarios despiertos por la noche para proveer mejor seguridad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Si hay niños durmiendo en varias habitaciones, se van a necesitar más voluntarios. Por ejemplo, debería de haber el mínimo de un voluntario despierto a toda hora en cada habitación donde hay niños durmiendo. Nota: Estos voluntarios son adicionales a los dos voluntarios encargados del turno de noche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Voluntarios—Necesidades Adicionales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Provea orientación sobre los reglamentos de seguridad del centro de refugi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Desarrolle un plan general de todo lo que se tiene que hacer en caso de emergenc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Repase/entrene a individuos para que estén conscientes de su función como voluntari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Enfatice las necesidades de seguridad, además de las necesidades de protección de los niñ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Preparando a los voluntari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Repase/entrene a los voluntarios a reconocer y proveer por las necesidades básicas, físicas, y emocionales de los niñ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Repase/entrene a los voluntarios a entrevistar a los padres de familia, con el propósito de recolectar información de contacto, además de datos básicos de cada niño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Repase/entrene a los voluntarios a tratar con situaciones de angustia y conducta disruptiva, ya sea de padres y/o niño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Preparando a los voluntari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Registro de niño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Asista a los padres a llenar los formularios de datos (Ver ejemplar de Formulario de Asesoramiento)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Apunte la información de contacto/emergencia de los padres de familia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Designe a alguien a tomar fotos (niños, padres de familia, parientes)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Organice tablas de información familiar (cuando posible, una tabla por cada niño</a:t>
            </a:r>
            <a:r>
              <a:rPr b="0" lang="en-US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lnSpc>
                <a:spcPct val="9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Saber quién puede visitar y recoger al niño del centr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lnSpc>
                <a:spcPct val="9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Poner de muestra en un lugar visible para asegurar a los niños, además de facilitar su acceso a los voluntario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"/>
              </a:rPr>
              <a:t>El centro de refugio en operación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nstantia"/>
              </a:rPr>
              <a:t>Guías generales para trabajar con niños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El niño puede estar aturdido, en estado de shock, o estar sintiendo algún nivel de falta de asociación que puede empeorar si no se le protege del estímulo que causó la experiencia traumátic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Donde posible, dirija a los niños a un lugar lejos del desastre y de personas que han sobrevivido pero que están lastimad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Use palabras bondadosas pero firmes para dar instruccione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Trabajando con los Niñ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601200" indent="-231120">
              <a:lnSpc>
                <a:spcPct val="100000"/>
              </a:lnSpc>
              <a:spcBef>
                <a:spcPts val="34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-Conéctarse con personas familiar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Conéctese con padres de familia y/o parientes en intervalos regular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Provea información correcta  sobre el estado de sus familias, en intervalos regulares, cuando el niño lo pida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100000"/>
              </a:lnSpc>
              <a:spcBef>
                <a:spcPts val="34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-Apoyar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Ofrezca apoyo, sea compasivo y bondadoso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Aprenda y use el nombre de los niños, especialmente cuando uno se dirige a ello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Use comunicación sin prejuicios, ya sea verbal o no verbalmente, con el niño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No importa la duración de su estadía, el uso de herramientas terapéuticas le ayuda al niño a reconectar  y reducir el nivel de su angustia causado por su pérdida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100000"/>
              </a:lnSpc>
              <a:spcBef>
                <a:spcPts val="34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-Triaj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Observe las necesidades físicas y emocionales (ver los materiales de asesoramiento proveídos en la próxima sesión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Haga triaje con médicos y profesionales de salud ment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3" marL="1116000" indent="-196920">
              <a:spcBef>
                <a:spcPts val="3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En términos de local y de protocolo para visitas entre niños y profesionales, arreglos deberán hacerse por avanzado (eg., en el hospital o en un local de emergencia médica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"/>
              </a:rPr>
              <a:t>Trabajando con los Niños—cont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Title 3" descr=""/>
          <p:cNvPicPr/>
          <p:nvPr/>
        </p:nvPicPr>
        <p:blipFill>
          <a:blip r:embed="rId1"/>
          <a:stretch/>
        </p:blipFill>
        <p:spPr>
          <a:xfrm>
            <a:off x="523800" y="1311120"/>
            <a:ext cx="7785000" cy="14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"/>
              </a:rPr>
              <a:t>Visión general: Creando un Ambiente Seguro para su Niño Después de un  Desastr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23623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Después de un desastre todo niño necesita estar en un lugar seguro, lejos del peligro y de otras experiencias que le puedan causar más angusti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Los padres y guardianes necesitan tener acceso a un lugar donde puedan dejar a sus niños mientras que ellos consiguen trabajo, encuentran vivienda segura, procuran comida, agua, etc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Para poder desarrollar un ambiente seguro se requiere planificación, además de consideración de las necesidades de los niños después de un desastre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457200" y="21333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Estableciendo un medio ambiente seguro para sus niños requier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Protección- establecer una zona/ un centro de refugio segur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Dirección- guiar a otros a  áreas lejos del desastr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Conexión- estar en contacto con padres y parientes en  intervalos regular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Apoyo- proveer un medio ambiente seguro  (</a:t>
            </a:r>
            <a:r>
              <a:rPr b="0" i="1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2da sesión</a:t>
            </a: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Triaje- asesorar de manera general las necesidades físicas y emocionales, haciendo triaje con profesionales avanzados cuando apropiado (</a:t>
            </a:r>
            <a:r>
              <a:rPr b="0" i="1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2da sesión</a:t>
            </a: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"/>
              </a:rPr>
              <a:t>Visión general: Creando un Ambiente Seguro para su Niño Después de un  Desastr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57200" y="1752120"/>
            <a:ext cx="822960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La preparación es clave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- Conozca su comunida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 Considere cuántos locales se van a necesitar, eg., los suficientes para tratar a los niños de la comunida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 Trabaje con otras iglesias y grupos comunitarios para establecer un plan de cómo crear y tener listos centros de refugios múltipl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50320" indent="-22896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Proveen más acceso en los vecindarios (eg. la distancia entre vecindarios tomando en cuenta transporte limitado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50320" indent="-22896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Permiten el encuentro de grupos pequeños para niños del vecindari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50320" indent="-22896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Proveen mas familiaridad que un local donde los niños no se conoce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500" spc="-1" strike="noStrike">
                <a:solidFill>
                  <a:srgbClr val="ffffff"/>
                </a:solidFill>
                <a:latin typeface="Calibri"/>
              </a:rPr>
              <a:t>Protección- establecer una zona/ un centro de refugio seguro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dentificando sitios/locales alternativos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El local alternativo provee mejor preparación ya que uno nunca sabe cuándo va a suceder un desastr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Identifique diferentes locales comunitarios (Iglesias, escuelas, centros comunitarios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Identifique aéreas abiertas donde centros de refugios temporarios puedan ser instalado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500" spc="-1" strike="noStrike">
                <a:solidFill>
                  <a:srgbClr val="ffffff"/>
                </a:solidFill>
                <a:latin typeface="Calibri"/>
              </a:rPr>
              <a:t>Localizando los mejores sitios para las Zonas de Seguridad para Niño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457200" y="22093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Visite cada local alternativ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Explore para determinar si existen problemas de seguridad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Evite locales donde se encuentre posible peligro (eg., zonas de construcción peligrosas, la exposición de toxinas, agua profunda, lugares donde se pueda caer un niño, animales, otros elementos peligrosos, etc.)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Todos los sitios seleccionados tienen que tener manera de ser asegurados (eg., protección contra intrusos, individuos depredadores que buscan abusar o explotar a niños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Todos los sitios deben ser accesibles (eg., proximidad a facilidades médicas y otros recursos, acceso a transporte público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Tenga un acuerdo por adelantado que detalle la disponibilidad del local en situaciones de emergencia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500" spc="-1" strike="noStrike">
                <a:solidFill>
                  <a:srgbClr val="ffffff"/>
                </a:solidFill>
                <a:latin typeface="Calibri"/>
              </a:rPr>
              <a:t>Localizando los mejores sitios para las Zonas de Seguridad para Niño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8088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Identifique una bodega para almacenar suministros (idealmente en el mismo local que va a ser utilizado como centro de refugio/zona de segurida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Suministros de emergencia (eg., agua, primeros auxilios, lámpara de mano, baterías, radio, etc.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Comida/bocadillos (7-10 días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Platos, vasos, cucharas, tenedores, toallas de papel, etc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Cobija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Pañal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Productos de higiene personal para adolescentes (jabón de baño, cepillo de dientes, pasta de dientes, desodorante, higiene femenina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Lupa o lentes para niños con problemas de visió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Ropa (diferentes tamaño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500" spc="-1" strike="noStrike">
                <a:solidFill>
                  <a:srgbClr val="ffffff"/>
                </a:solidFill>
                <a:latin typeface="Calibri"/>
              </a:rPr>
              <a:t>Identificando y asegurando suministros por avanzado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Útiles escolares (papel, lápices, plumas, tiza, colores para pintar, etc.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Juguetes (considere darle a cada niño su propio juguete cuando lleguen al centro de refugio—un juguete que se puedan llevar cuando se vayan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Juegos de mesa (para diferentes edades, incluyendo adolescente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Materiales de arte (papel, pinturas de agua, pinceles, tijeras, pegamento, etc.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Libros (para diferentes edades, incluyendo adolescente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Productos de limpieza (jabón, detergente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Cámara (la habilidad de crear y mostrar fotos instantáneas de los niños y sus familia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Teléfono (considere otros medios de contacto que no requieran el uso de electricidad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Suministros cont.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Elabore reglamentos para el centro de refugio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Ejemplos de pauta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Nadie, con la excepción del adulto designado/aprobado, es permitido llevarse al niño del centro de refugi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Solamente los individuos con acceso autorizado son permitidos en la Zona de Seguridad para Niño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Los padres de familia tienen que llenar formularios de datos antes de dejar a sus niños en el centro de refugi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Ambos, los padres de familia y sus niños tienen que tomarse fotos al registrars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Los voluntarios tienen que estar pendientes de los niños bajo su cargo en todo moment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La comunicación debe ser positiva y debe reducir conflicto y angustia, en todo momento, entre padres de familia, niños, y voluntario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Los padres de familia y parientes aprobados deben registrarse en el centro de refugio antes de poder entrar a proveerle asistencia y comodidad a sus niño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Lineamientos/Reglament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2T01:37:54Z</dcterms:created>
  <dc:creator>Carol</dc:creator>
  <dc:description/>
  <dc:language>en-US</dc:language>
  <cp:lastModifiedBy>Jeminaeh</cp:lastModifiedBy>
  <dcterms:modified xsi:type="dcterms:W3CDTF">2012-07-10T03:46:38Z</dcterms:modified>
  <cp:revision>69</cp:revision>
  <dc:subject/>
  <dc:title>Creating Child Safe Environments After a Disaster</dc:title>
</cp:coreProperties>
</file>